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E8C8A-F170-4A03-8095-63A9C85B9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DFE21-ECEB-4D80-9A4E-B629A0039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A02D4-973D-4E2B-99E2-8E6D257D2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34D32-A79D-4F45-852E-92A1A27EC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C21F4-60E2-43E1-A852-8810FCEC4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5C761-32BA-4A96-9B24-F703BE435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84407-0C19-4E0F-B203-6DB2F0C12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EC93C-B5D8-4ADF-8609-2300B8D5C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A4BDB-AC69-4A4D-A376-FDD60EBB1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D5FDD-4642-46D4-ABBA-F59E37446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8338A-9E1C-4480-9886-4ADF5584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A1919-5569-4CE1-A8DF-55D763562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38267-DF5E-4EFB-A5D9-9A6DC2632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72626-AB6A-44A5-A14C-DA7A80FA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8E6EB-0C23-466B-BA70-45451F057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30FAF-5238-4B03-A2AA-0CC39FAF3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2161A-C394-4CA7-BCB3-D2963C28C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D9524-0900-4319-946C-E4027B0FD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6997E-A145-4EF9-B87F-C93E58DD4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3D29F-A038-4F18-8E0C-F2F4C18DF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CFB59-ADD7-4FCA-98D0-817A1DCA5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8A7AD-0EA0-467E-8079-1ED654D9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37FE2-3EFE-4A96-8C4C-BD45C93C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F0368-450B-4DA6-BD46-FABA33D9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BB1B3-6B45-4C26-BD13-7AD87D2F5F80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84D5D-8109-4467-8C27-63E3439EDAFA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0" y="90000"/>
            <a:ext cx="91440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4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12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Чудната стара повест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 вечните неща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кажи ми ти, кажи ми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 Господа Христа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, разкажи ми просто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как Божи Син дойде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щото много слаб съм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като едно дете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0" y="997560"/>
            <a:ext cx="9144000" cy="44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Чудната стара повест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Кажи ми ти, кажи ми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 вечното спасение –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Кажи ми за Христа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0" y="455040"/>
            <a:ext cx="9144000" cy="56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аз повест за спасение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 усърдие кажи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щото Господ търси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мене да спаси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ъщата много пъти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моля ти се, разкажи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щото аз забравям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ез славни истини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0" y="997560"/>
            <a:ext cx="9144000" cy="44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Чудната стара повест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Кажи ми ти, кажи ми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 вечното спасение –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Кажи ми за Христа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-181080" y="-126720"/>
            <a:ext cx="9325080" cy="63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оз свят да не ми стане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ъблазън и беда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кажи ми пак таз повест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кажи ми за Христа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А и когато слава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ебесна се яви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 чуя пак тази повест: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"Христос те изцели!"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0" y="997560"/>
            <a:ext cx="9144000" cy="44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Чудната стара повест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Кажи ми ти, кажи ми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 вечното спасение –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Кажи ми за Христа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09-10-24T15:24:10Z</dcterms:modified>
  <cp:revision>14</cp:revision>
  <dc:subject/>
  <dc:title>Slide 1</dc:title>
</cp:coreProperties>
</file>